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zipdn102.wav" ContentType="audio/x-wav"/>
  <Override PartName="/ppt/media/jetflyby2.wav" ContentType="audio/x-wav"/>
  <Override PartName="/ppt/media/highchime.wav" ContentType="audio/x-wav"/>
  <Override PartName="/ppt/media/hzipup01.wav" ContentType="audio/x-wav"/>
  <Override PartName="/ppt/media/caralarmoff.wav" ContentType="audio/x-wav"/>
  <Override PartName="/ppt/media/lzipup01.wav" ContentType="audio/x-wav"/>
  <Override PartName="/ppt/media/zipby102.wav" ContentType="audio/x-wav"/>
  <Override PartName="/ppt/media/chimes.wav" ContentType="audio/x-wav"/>
  <Override PartName="/ppt/media/projctor.wav" ContentType="audio/x-wav"/>
  <Override PartName="/ppt/media/lase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F593-0E8E-4204-85BF-9830FA86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45EA-9513-4ED9-9261-1CBE37F3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C82E-5F0D-4150-ADC2-A03546D3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4C11-1E0F-4020-A13D-62857D99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3D03-EF37-4001-B39D-4C9D42DC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C911-B34F-4D78-88FD-E505AA74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086B-B3F7-4482-9198-F2BC6304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CC82-3CCE-4729-982A-8C84CB61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123D-37A5-488A-970B-41A2C54D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891F-F01D-41BC-9689-CD9D5935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DC28-AD81-4947-A6AB-DA31EDF8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909A-C67C-45D9-A01E-A4A9EA90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556F-8588-4221-9711-D7485B882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jetflyby2.wav"/><Relationship Id="rId3" Type="http://schemas.openxmlformats.org/officeDocument/2006/relationships/audio" Target="../media/zapbig0g.wav"/><Relationship Id="rId4" Type="http://schemas.openxmlformats.org/officeDocument/2006/relationships/audio" Target="../media/zipdn102.wav"/><Relationship Id="rId5" Type="http://schemas.openxmlformats.org/officeDocument/2006/relationships/audio" Target="../media/highchime.wav"/><Relationship Id="rId6" Type="http://schemas.openxmlformats.org/officeDocument/2006/relationships/audio" Target="../media/zipdn102.wav"/><Relationship Id="rId7" Type="http://schemas.openxmlformats.org/officeDocument/2006/relationships/audio" Target="../media/zapbig0g.wav"/><Relationship Id="rId8" Type="http://schemas.openxmlformats.org/officeDocument/2006/relationships/audio" Target="../media/hzipup01.wav"/><Relationship Id="rId9" Type="http://schemas.openxmlformats.org/officeDocument/2006/relationships/audio" Target="../media/zapbig0g.wav"/><Relationship Id="rId10" Type="http://schemas.openxmlformats.org/officeDocument/2006/relationships/audio" Target="../media/zipdn102.wav"/><Relationship Id="rId11" Type="http://schemas.openxmlformats.org/officeDocument/2006/relationships/audio" Target="../media/highchime.wav"/><Relationship Id="rId12" Type="http://schemas.openxmlformats.org/officeDocument/2006/relationships/audio" Target="../media/zipdn102.wav"/><Relationship Id="rId13" Type="http://schemas.openxmlformats.org/officeDocument/2006/relationships/audio" Target="../media/zapbig0g.wav"/><Relationship Id="rId14" Type="http://schemas.openxmlformats.org/officeDocument/2006/relationships/audio" Target="../media/hzipup01.wav"/><Relationship Id="rId15" Type="http://schemas.openxmlformats.org/officeDocument/2006/relationships/audio" Target="../media/zapbig0g.wav"/><Relationship Id="rId16" Type="http://schemas.openxmlformats.org/officeDocument/2006/relationships/audio" Target="../media/hzipup01.wav"/><Relationship Id="rId17" Type="http://schemas.openxmlformats.org/officeDocument/2006/relationships/audio" Target="../media/hzipup01.wav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audio" Target="../media/laser.wav"/><Relationship Id="rId4" Type="http://schemas.openxmlformats.org/officeDocument/2006/relationships/audio" Target="../media/projctor.wav"/><Relationship Id="rId5" Type="http://schemas.openxmlformats.org/officeDocument/2006/relationships/audio" Target="../media/laser.wav"/><Relationship Id="rId6" Type="http://schemas.openxmlformats.org/officeDocument/2006/relationships/audio" Target="../media/projcto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audio" Target="../media/laser.wav"/><Relationship Id="rId4" Type="http://schemas.openxmlformats.org/officeDocument/2006/relationships/audio" Target="../media/projctor.wav"/><Relationship Id="rId5" Type="http://schemas.openxmlformats.org/officeDocument/2006/relationships/audio" Target="../media/laser.wav"/><Relationship Id="rId6" Type="http://schemas.openxmlformats.org/officeDocument/2006/relationships/audio" Target="../media/projcto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zapbig0g.wav"/><Relationship Id="rId3" Type="http://schemas.openxmlformats.org/officeDocument/2006/relationships/audio" Target="../media/jetflyby2.wav"/><Relationship Id="rId4" Type="http://schemas.openxmlformats.org/officeDocument/2006/relationships/audio" Target="../media/zapbig0g.wav"/><Relationship Id="rId5" Type="http://schemas.openxmlformats.org/officeDocument/2006/relationships/audio" Target="../media/zipdn102.wav"/><Relationship Id="rId6" Type="http://schemas.openxmlformats.org/officeDocument/2006/relationships/audio" Target="../media/highchime.wav"/><Relationship Id="rId7" Type="http://schemas.openxmlformats.org/officeDocument/2006/relationships/audio" Target="../media/zipdn102.wav"/><Relationship Id="rId8" Type="http://schemas.openxmlformats.org/officeDocument/2006/relationships/audio" Target="../media/zapbig0g.wav"/><Relationship Id="rId9" Type="http://schemas.openxmlformats.org/officeDocument/2006/relationships/audio" Target="../media/hzipup01.wav"/><Relationship Id="rId10" Type="http://schemas.openxmlformats.org/officeDocument/2006/relationships/audio" Target="../media/zipdn102.wav"/><Relationship Id="rId11" Type="http://schemas.openxmlformats.org/officeDocument/2006/relationships/audio" Target="../media/highchime.wav"/><Relationship Id="rId12" Type="http://schemas.openxmlformats.org/officeDocument/2006/relationships/audio" Target="../media/zipdn102.wav"/><Relationship Id="rId13" Type="http://schemas.openxmlformats.org/officeDocument/2006/relationships/audio" Target="../media/zapbig0g.wav"/><Relationship Id="rId14" Type="http://schemas.openxmlformats.org/officeDocument/2006/relationships/audio" Target="../media/hzipup01.wav"/><Relationship Id="rId15" Type="http://schemas.openxmlformats.org/officeDocument/2006/relationships/audio" Target="../media/zapbig0g.wav"/><Relationship Id="rId16" Type="http://schemas.openxmlformats.org/officeDocument/2006/relationships/audio" Target="../media/hzipup01.wav"/><Relationship Id="rId17" Type="http://schemas.openxmlformats.org/officeDocument/2006/relationships/audio" Target="../media/hzipup01.wav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zapbig0g.wav"/><Relationship Id="rId3" Type="http://schemas.openxmlformats.org/officeDocument/2006/relationships/audio" Target="../media/zipdn102.wav"/><Relationship Id="rId4" Type="http://schemas.openxmlformats.org/officeDocument/2006/relationships/audio" Target="../media/highchime.wav"/><Relationship Id="rId5" Type="http://schemas.openxmlformats.org/officeDocument/2006/relationships/audio" Target="../media/zipdn102.wav"/><Relationship Id="rId6" Type="http://schemas.openxmlformats.org/officeDocument/2006/relationships/audio" Target="../media/zapbig0g.wav"/><Relationship Id="rId7" Type="http://schemas.openxmlformats.org/officeDocument/2006/relationships/audio" Target="../media/zipdn102.wav"/><Relationship Id="rId8" Type="http://schemas.openxmlformats.org/officeDocument/2006/relationships/audio" Target="../media/highchime.wav"/><Relationship Id="rId9" Type="http://schemas.openxmlformats.org/officeDocument/2006/relationships/audio" Target="../media/zipdn102.wav"/><Relationship Id="rId10" Type="http://schemas.openxmlformats.org/officeDocument/2006/relationships/audio" Target="../media/zapbig0g.wav"/><Relationship Id="rId11" Type="http://schemas.openxmlformats.org/officeDocument/2006/relationships/audio" Target="../media/hzipup01.wav"/><Relationship Id="rId12" Type="http://schemas.openxmlformats.org/officeDocument/2006/relationships/audio" Target="../media/hzipup01.wav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zapbig0g.wav"/><Relationship Id="rId3" Type="http://schemas.openxmlformats.org/officeDocument/2006/relationships/audio" Target="../media/zipdn102.wav"/><Relationship Id="rId4" Type="http://schemas.openxmlformats.org/officeDocument/2006/relationships/audio" Target="../media/highchime.wav"/><Relationship Id="rId5" Type="http://schemas.openxmlformats.org/officeDocument/2006/relationships/audio" Target="../media/zipdn102.wav"/><Relationship Id="rId6" Type="http://schemas.openxmlformats.org/officeDocument/2006/relationships/audio" Target="../media/zapbig0g.wav"/><Relationship Id="rId7" Type="http://schemas.openxmlformats.org/officeDocument/2006/relationships/audio" Target="../media/zipdn102.wav"/><Relationship Id="rId8" Type="http://schemas.openxmlformats.org/officeDocument/2006/relationships/audio" Target="../media/highchime.wav"/><Relationship Id="rId9" Type="http://schemas.openxmlformats.org/officeDocument/2006/relationships/audio" Target="../media/zipdn102.wav"/><Relationship Id="rId10" Type="http://schemas.openxmlformats.org/officeDocument/2006/relationships/audio" Target="../media/zapbig0g.wav"/><Relationship Id="rId11" Type="http://schemas.openxmlformats.org/officeDocument/2006/relationships/audio" Target="../media/hzipup01.wav"/><Relationship Id="rId12" Type="http://schemas.openxmlformats.org/officeDocument/2006/relationships/audio" Target="../media/zapbig0g.wav"/><Relationship Id="rId13" Type="http://schemas.openxmlformats.org/officeDocument/2006/relationships/audio" Target="../media/hzipup01.wav"/><Relationship Id="rId14" Type="http://schemas.openxmlformats.org/officeDocument/2006/relationships/audio" Target="../media/hzipup01.wav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zipdn102.wav"/><Relationship Id="rId5" Type="http://schemas.openxmlformats.org/officeDocument/2006/relationships/audio" Target="../media/zipdn102.wav"/><Relationship Id="rId6" Type="http://schemas.openxmlformats.org/officeDocument/2006/relationships/audio" Target="../media/zipdn102.wav"/><Relationship Id="rId7" Type="http://schemas.openxmlformats.org/officeDocument/2006/relationships/audio" Target="../media/zipdn102.wav"/><Relationship Id="rId8" Type="http://schemas.openxmlformats.org/officeDocument/2006/relationships/audio" Target="../media/zipdn102.wav"/><Relationship Id="rId9" Type="http://schemas.openxmlformats.org/officeDocument/2006/relationships/audio" Target="../media/zipby102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zipdn102.wav"/><Relationship Id="rId3" Type="http://schemas.openxmlformats.org/officeDocument/2006/relationships/audio" Target="../media/zipdn102.wav"/><Relationship Id="rId4" Type="http://schemas.openxmlformats.org/officeDocument/2006/relationships/audio" Target="../media/zipdn102.wav"/><Relationship Id="rId5" Type="http://schemas.openxmlformats.org/officeDocument/2006/relationships/audio" Target="../media/zipdn102.wav"/><Relationship Id="rId6" Type="http://schemas.openxmlformats.org/officeDocument/2006/relationships/audio" Target="../media/zipdn102.wav"/><Relationship Id="rId7" Type="http://schemas.openxmlformats.org/officeDocument/2006/relationships/audio" Target="../media/zipby102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zipdn102.wav"/><Relationship Id="rId3" Type="http://schemas.openxmlformats.org/officeDocument/2006/relationships/audio" Target="../media/zipdn102.wav"/><Relationship Id="rId4" Type="http://schemas.openxmlformats.org/officeDocument/2006/relationships/audio" Target="../media/zipdn102.wav"/><Relationship Id="rId5" Type="http://schemas.openxmlformats.org/officeDocument/2006/relationships/audio" Target="../media/zipdn102.wav"/><Relationship Id="rId6" Type="http://schemas.openxmlformats.org/officeDocument/2006/relationships/audio" Target="../media/zipdn102.wav"/><Relationship Id="rId7" Type="http://schemas.openxmlformats.org/officeDocument/2006/relationships/audio" Target="../media/zipby102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audio" Target="../media/laser.wav"/><Relationship Id="rId5" Type="http://schemas.openxmlformats.org/officeDocument/2006/relationships/audio" Target="../media/projctor.wav"/><Relationship Id="rId6" Type="http://schemas.openxmlformats.org/officeDocument/2006/relationships/audio" Target="../media/laser.wav"/><Relationship Id="rId7" Type="http://schemas.openxmlformats.org/officeDocument/2006/relationships/audio" Target="../media/projcto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audio" Target="../media/laser.wav"/><Relationship Id="rId4" Type="http://schemas.openxmlformats.org/officeDocument/2006/relationships/audio" Target="../media/projctor.wav"/><Relationship Id="rId5" Type="http://schemas.openxmlformats.org/officeDocument/2006/relationships/audio" Target="../media/laser.wav"/><Relationship Id="rId6" Type="http://schemas.openxmlformats.org/officeDocument/2006/relationships/audio" Target="../media/projcto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8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71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Use the calculator to multiply or divid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84320" y="1260360"/>
                <a:ext cx="2400120" cy="164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25280" y="2955960"/>
                <a:ext cx="4780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706320" y="3046320"/>
                <a:ext cx="478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400040" y="2971800"/>
                <a:ext cx="4366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624040" y="2989440"/>
                <a:ext cx="77148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025720" y="3165480"/>
                <a:ext cx="5191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4008600" y="1274760"/>
            <a:ext cx="51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Multiply the numerat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22640" y="2084400"/>
            <a:ext cx="512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Multiply the denominat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0520" y="3745080"/>
                <a:ext cx="78264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22160" y="3807000"/>
                <a:ext cx="4780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415880" y="3732120"/>
                <a:ext cx="4366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568600" y="3754440"/>
                <a:ext cx="10713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041560" y="3925800"/>
                <a:ext cx="5191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3992400" y="3941640"/>
            <a:ext cx="515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Write it as a fra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450800" y="4564080"/>
                <a:ext cx="77184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254240" y="4383000"/>
                <a:ext cx="1157040" cy="17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ind the minimum, maximum, and the r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16765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996600"/>
              </a:buClr>
              <a:buSzPct val="140000"/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996600"/>
                </a:solidFill>
                <a:latin typeface="Times New Roman"/>
              </a:rPr>
              <a:t>7, 6, 8, 4, 2, 5, 6,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5440" y="3276720"/>
            <a:ext cx="21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inimu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670120" y="3200400"/>
                <a:ext cx="11732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579600" y="4419720"/>
            <a:ext cx="231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aximu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712960" y="4367160"/>
                <a:ext cx="10414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639720" y="5546880"/>
            <a:ext cx="231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an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643120" y="5494320"/>
                <a:ext cx="20368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670280" y="5510160"/>
                <a:ext cx="10875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ind the minimum, maximum, and the r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6765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996600"/>
              </a:buClr>
              <a:buSzPct val="140000"/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996600"/>
                </a:solidFill>
                <a:latin typeface="Times New Roman"/>
              </a:rPr>
              <a:t>4, 5, 6, 8, 4, 9, 4, 5, 3,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5440" y="3276720"/>
            <a:ext cx="21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inimu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693880" y="3176640"/>
                <a:ext cx="112392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579600" y="4419720"/>
            <a:ext cx="231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aximu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712960" y="4367160"/>
                <a:ext cx="10414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639720" y="5546880"/>
            <a:ext cx="231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an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643120" y="5494320"/>
                <a:ext cx="20368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670280" y="5510160"/>
                <a:ext cx="10875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771480"/>
            <a:ext cx="91440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35, 9 – 8 #1 – 6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37, 9 – 9 #1 – 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37, 9 – 9 #1 – 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pg 85/8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8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71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Use the calculator to multiply or divid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0480" y="1260360"/>
                <a:ext cx="2649240" cy="164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76280" y="4668840"/>
                <a:ext cx="47772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177920" y="4759200"/>
                <a:ext cx="4777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730520" y="4684680"/>
                <a:ext cx="4791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075120" y="4707000"/>
                <a:ext cx="81432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376360" y="4878360"/>
                <a:ext cx="5191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4008600" y="1274760"/>
            <a:ext cx="51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Write as a multipl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40120" y="1838160"/>
            <a:ext cx="440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Multiply the numerators. Multiply the denomina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98360" y="5478480"/>
                <a:ext cx="8254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073160" y="5519880"/>
                <a:ext cx="47772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746360" y="5467320"/>
                <a:ext cx="4791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073320" y="5467320"/>
                <a:ext cx="8143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392200" y="5638680"/>
                <a:ext cx="5191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4768920" y="3406680"/>
            <a:ext cx="437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Write it as a fr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930920" y="4821120"/>
                <a:ext cx="8143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873680" y="4614840"/>
                <a:ext cx="900000" cy="17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969840" y="2925720"/>
                <a:ext cx="1820880" cy="16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8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7160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Use the calculator to multiply or divid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01600" y="1477800"/>
                <a:ext cx="3075120" cy="177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25520" y="3814920"/>
                <a:ext cx="51588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209600" y="3809880"/>
                <a:ext cx="50652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708200" y="3835440"/>
                <a:ext cx="9842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105680" y="3862440"/>
                <a:ext cx="16398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709720" y="3921120"/>
                <a:ext cx="5684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4317840" y="1355760"/>
            <a:ext cx="482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With a fraction key on a calculator, just type in the probl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430440" y="3828960"/>
                <a:ext cx="8766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394160" y="3824280"/>
                <a:ext cx="5065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923000" y="3819600"/>
                <a:ext cx="98424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869080" y="4038480"/>
                <a:ext cx="6192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549600" y="4711680"/>
                <a:ext cx="98280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8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7160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Use the calculator to multiply or divid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47680" y="1477800"/>
                <a:ext cx="3073320" cy="177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93680" y="3798720"/>
                <a:ext cx="98100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209600" y="3809880"/>
                <a:ext cx="50652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709640" y="3860640"/>
                <a:ext cx="9828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7340760" y="3846600"/>
                <a:ext cx="12636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684520" y="3921120"/>
                <a:ext cx="6192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4317840" y="1355760"/>
            <a:ext cx="482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With a fraction key on a calculator, just type in the probl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583080" y="3828960"/>
                <a:ext cx="5680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394160" y="3824280"/>
                <a:ext cx="5065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986360" y="3828960"/>
                <a:ext cx="8287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869080" y="4038480"/>
                <a:ext cx="6192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978280" y="5097600"/>
                <a:ext cx="224784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υ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41520" y="5118120"/>
                <a:ext cx="18079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b/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680080" y="4713120"/>
                <a:ext cx="1685880" cy="18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9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4954680"/>
            <a:ext cx="883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buClr>
                <a:srgbClr val="000099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Find the number of calories in 3 pieces of brea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41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the problem by using the 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351080" y="5567400"/>
                <a:ext cx="98100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349360" y="5684760"/>
                <a:ext cx="5684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940120" y="5553000"/>
                <a:ext cx="5144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449520" y="5805360"/>
                <a:ext cx="6192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133880" y="5537160"/>
                <a:ext cx="1292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5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6" name=""/>
          <p:cNvGraphicFramePr/>
          <p:nvPr/>
        </p:nvGraphicFramePr>
        <p:xfrm>
          <a:off x="1646280" y="1230480"/>
          <a:ext cx="6018120" cy="3682800"/>
        </p:xfrm>
        <a:graphic>
          <a:graphicData uri="http://schemas.openxmlformats.org/drawingml/2006/table">
            <a:tbl>
              <a:tblPr/>
              <a:tblGrid>
                <a:gridCol w="2544840"/>
                <a:gridCol w="1344600"/>
                <a:gridCol w="212868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or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ms Prote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p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piece of bre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turkey bur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cup of yogu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or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portion of pas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288040" y="5684760"/>
            <a:ext cx="204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calo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9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4954680"/>
            <a:ext cx="883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buClr>
                <a:srgbClr val="000099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Find the number of calories in 2 cups of yogur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41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the problem by using the 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968400" y="5567400"/>
                <a:ext cx="129060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349360" y="5684760"/>
                <a:ext cx="5684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900520" y="5564160"/>
                <a:ext cx="56664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449520" y="5805360"/>
                <a:ext cx="6192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083120" y="5537160"/>
                <a:ext cx="13953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9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6" name=""/>
          <p:cNvGraphicFramePr/>
          <p:nvPr/>
        </p:nvGraphicFramePr>
        <p:xfrm>
          <a:off x="1646280" y="1230480"/>
          <a:ext cx="6018120" cy="3641400"/>
        </p:xfrm>
        <a:graphic>
          <a:graphicData uri="http://schemas.openxmlformats.org/drawingml/2006/table">
            <a:tbl>
              <a:tblPr/>
              <a:tblGrid>
                <a:gridCol w="2544840"/>
                <a:gridCol w="1344600"/>
                <a:gridCol w="212868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or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ms Prote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p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piece of bre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turkey bur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cup of yogu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or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portion of pas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5288040" y="5684760"/>
            <a:ext cx="204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calo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9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4954680"/>
            <a:ext cx="883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buClr>
                <a:srgbClr val="000099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How many grams of protein are in 6 orang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41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the problem by using the 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096920" y="5567400"/>
                <a:ext cx="103176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349360" y="5684760"/>
                <a:ext cx="5684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00520" y="5538960"/>
                <a:ext cx="5666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449520" y="5805360"/>
                <a:ext cx="6192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186080" y="5537160"/>
                <a:ext cx="11890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6" name=""/>
          <p:cNvGraphicFramePr/>
          <p:nvPr/>
        </p:nvGraphicFramePr>
        <p:xfrm>
          <a:off x="1646280" y="1230480"/>
          <a:ext cx="6018120" cy="3641400"/>
        </p:xfrm>
        <a:graphic>
          <a:graphicData uri="http://schemas.openxmlformats.org/drawingml/2006/table">
            <a:tbl>
              <a:tblPr/>
              <a:tblGrid>
                <a:gridCol w="2544840"/>
                <a:gridCol w="1344600"/>
                <a:gridCol w="212868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or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ms Prote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p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piece of bre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turkey bur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cup of yogu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or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portion of pas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5181480" y="5684760"/>
            <a:ext cx="204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gr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ind the minimum, maximum, and the r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6765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996600"/>
              </a:buClr>
              <a:buSzPct val="140000"/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996600"/>
                </a:solidFill>
                <a:latin typeface="Times New Roman"/>
              </a:rPr>
              <a:t>2, 3, 7, 8, 5, 4, 1, 3,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5440" y="3276720"/>
            <a:ext cx="21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inimu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743200" y="3200400"/>
                <a:ext cx="10270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579600" y="4419720"/>
            <a:ext cx="231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aximu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712960" y="4367160"/>
                <a:ext cx="10414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639720" y="5546880"/>
            <a:ext cx="231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an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709720" y="5494320"/>
                <a:ext cx="19018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70280" y="5510160"/>
                <a:ext cx="10875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ind the minimum, maximum, and the r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16765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996600"/>
              </a:buClr>
              <a:buSzPct val="14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996600"/>
                </a:solidFill>
                <a:latin typeface="Times New Roman"/>
              </a:rPr>
              <a:t>8, 1, 4, 3, 9, 7,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5440" y="3276720"/>
            <a:ext cx="21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inimu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743200" y="3200400"/>
                <a:ext cx="10270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579600" y="4419720"/>
            <a:ext cx="231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aximu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712960" y="4367160"/>
                <a:ext cx="10414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639720" y="5546880"/>
            <a:ext cx="231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an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687760" y="5494320"/>
                <a:ext cx="19461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692600" y="5510160"/>
                <a:ext cx="1042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6-02-17T20:02:05Z</dcterms:modified>
  <cp:revision>101</cp:revision>
  <dc:subject/>
  <dc:title>Slide 1</dc:title>
</cp:coreProperties>
</file>